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0E0-63D5-49DB-8020-D8BB3FAB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278-ACBD-40AA-8A93-756395E9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ABF-D819-4508-A7C5-520C2908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87C-0929-40E6-A8C1-7174417A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9B2-3490-43BF-A615-98323B20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48E6-2B99-403E-926A-651C82C1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9238-F794-4427-BCA4-2CEBD3D4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5E3B-B710-42FD-85BE-A78F975E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2784-68DA-4E13-B12E-79E6BD27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9503-75A2-440E-AE29-06567053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43F6-E73E-4CEB-9CD3-13A44AE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51E-7925-4D51-8B4D-F36EA527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B065-F79D-4D05-965F-6044B9F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6DD6-1E6B-4C9E-9DA4-0126EA2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947E-64FE-4DA1-BF16-C2886A18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E933-60C5-48DE-BAA2-CDBA2146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CF69-19D4-4FF2-B5C6-A3BC2A71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3C6-BD8C-4BDD-9734-83731B92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251-A67A-482D-8C25-B3B1DA8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BD6-ED1F-40D3-967B-A78100BD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AF3-2554-40E9-A780-88489D99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E67-D897-40D9-A07E-0724FA4F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686-3D18-44A4-94E6-E51BA9E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CA0-69E4-4601-A81D-3521AC2C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D3AF-8157-4858-8381-46B443CE4E9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4087-FEC9-4642-A5A8-9B54D96515E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tatut_lidera_1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zkolny Lider T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 Konferenc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yka w Sz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uń, 20 września 2002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566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a Jednoróg  WODIP O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533520"/>
            <a:ext cx="2038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espół  Szkół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95280" y="1066680"/>
            <a:ext cx="4343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olnicze  Centrum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Kształcenia  Ustawicznego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24280" y="2057400"/>
            <a:ext cx="1219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  Nysie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6080" y="2895480"/>
            <a:ext cx="478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cyklicznej impre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oświęconej regionom Eu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1160" y="4572000"/>
            <a:ext cx="24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Opracowanie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Adam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Roman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Władysław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1752840" cy="17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533520" y="1981080"/>
          <a:ext cx="3174840" cy="444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81080"/>
                    <a:ext cx="317484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905120" y="1828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Czas trwania: jeden semes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590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utorzy projekt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59640" y="3573360"/>
            <a:ext cx="2050920" cy="1852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666880" y="3645000"/>
            <a:ext cx="1567080" cy="1993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447920" y="30492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zień Patrona Szkoły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" y="3645000"/>
            <a:ext cx="1522440" cy="2044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724280" y="3645000"/>
            <a:ext cx="1562400" cy="1917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5800" y="5715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bara Adamc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571500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lona Olch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5638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ta Sokó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5867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63868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egina Wasile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693880" cy="2333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2133720" y="762120"/>
            <a:ext cx="5314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Żyj w zgodzie z naturą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4366080" y="6019920"/>
            <a:ext cx="44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licj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ntas, Maria Prysok, Henryka Szub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iotr Kali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4191120"/>
            <a:ext cx="866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Ścieżka międzyprzedmiotowa: Wychowanie prozdrowot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9680" y="5638680"/>
            <a:ext cx="228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dstawy program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ształcenia ogól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Załącznik n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łuchacze otrzymali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świadczenia o ukończeniu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rtyfika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łytki CD z materiałami ze szkole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Żółte koszulki Szkolnego Lidera 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33520" y="405756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419720" y="405756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480" y="228600"/>
            <a:ext cx="7620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dpatrzone w obiektywi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2400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4419720" y="304920"/>
          <a:ext cx="3504960" cy="26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304920"/>
                    <a:ext cx="350496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2438280" y="1600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ziękuję za uwag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utorka: Teresa Jednoró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rog@wodip.opo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uczyciel-konsul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ojewódzki Ośrodek Doskonalenia Informatyczn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 Politechnicznego w Opol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realizacji tego zadania są potrzebn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y nauczania TI i informaty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ntegrowanie TI z programami różnych przedmio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ręczniki i inne pomoce dydaktyczne (sprzęt komputerowy i oprogramowan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uczyciele przygotowani do prowadzenia TI i stosowania jej na swoich zajęciac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 projekcie tym przedstawiono rolę lidera TI w szkole, zakres treści informatycznych i tematykę zajęć z zakresu Nowej Szkoły, które  lider TI powinien poznać     w celu wypełniania tych zadań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Założenia projektu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jekt da szkołom doskonale przygotowanego nauczyciela-lidera technologii informacyjnej, któr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ędzie znał znaczenie integracji międzyprzedmiotowej w nowej sz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ędzie potrafił samodzielnie lub zespołowo podjąć zadanie zbudowania programu naucz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ędzie umiał  zastosować najnowocześniejsze środki multimedialne do wykonania zadań na terenie szkoły oraz dla społeczeństwa i regionu, w którym ży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Odbiorcy projektu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uczyciele szkół podstawowych, gimnazjów i średnich, którzy posiadają przygotowanie informatyczne wykraczające ponad podstawy obsługi kompute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matyka zaję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a Szkoła – integracja międzyprzedmiot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stemy opera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dytory tek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kusze kalkula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azy da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ezentacje multimedi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w dydaktyce szkol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y edukacyj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ługa urządzeń multimedialn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rzenie projektó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racowanie statutu szkolnego lidera 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zas trwania projektu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Projekt obejmował 60 godzin dydaktyczny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Projekt realizowany w 4 edycjach w latach (1999 -200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Przeszkolono 169 nauczycieli w czasie 660 osobogodz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Końcowy efek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25 projektów międzyprzedmiotowy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Wypracowano </a:t>
            </a:r>
            <a:r>
              <a:rPr b="0" lang="pl-PL" sz="3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tatut</a:t>
            </a: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 nauczyciela Lidera 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468000" cy="71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4:11:13Z</dcterms:created>
  <dc:creator>Teresa Jednoróg</dc:creator>
  <dc:description/>
  <dc:language>en-US</dc:language>
  <cp:lastModifiedBy>Stanisław Rożniatowski</cp:lastModifiedBy>
  <dcterms:modified xsi:type="dcterms:W3CDTF">2002-09-20T08:14:55Z</dcterms:modified>
  <cp:revision>20</cp:revision>
  <dc:subject/>
  <dc:title>Szkolny Lider TI</dc:title>
</cp:coreProperties>
</file>